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AFF-7E80-4DEA-9DCA-F3A7A00F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155-7B16-49CD-8DF4-5321ADCC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4D6-D45D-464C-8E6F-735CEF31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AE0-91E5-4235-ADEB-6BB90FA9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AE8B-BB16-443F-A295-7621E6D5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E197-0B4B-4F21-99D3-A81B274D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F7B4-74BB-411A-ABFD-E6AED6EF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4E50-0F87-44CE-98AB-AB68B176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0405-A9B6-487A-8585-B7B66989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B33A-4E9B-40C8-93CB-C300F661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1019-861B-4AC1-9D83-39CF49AE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18F-A998-4ED5-9692-C838B56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0704-C82D-4EFF-A353-646645B8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582B-9DA0-4400-B92B-304F9FBF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147D-E702-491E-A97B-BA81A83A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530C-A9E9-4644-92C5-26484321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195E-83FC-4EEF-9DE7-EDA48E7A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FE6-ACF5-4FBC-9976-C378A8FB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5C1-93CC-459F-80D8-01039E34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85F-12B3-417E-A6B1-F8B9E392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C0C-B072-4158-AD7C-2A62A6D7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615-295B-4357-B01D-51343165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325-5C7F-4129-A2C3-0A7D2BC6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1ED-D900-4DE9-8F10-AFBB5029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461D-A22A-402B-A279-B28C388F5F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D975-DE36-438A-B18F-6325A648EF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2895480"/>
            <a:ext cx="2209680" cy="1524240"/>
          </a:xfrm>
          <a:prstGeom prst="cloudCallout">
            <a:avLst>
              <a:gd name="adj1" fmla="val -94972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élévisionS e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67240"/>
                <a:gridCol w="27176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é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é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ions fra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çaises sont très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nues dans le monde enti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quelle heure est difu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é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e matin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600200"/>
          <a:ext cx="8001000" cy="4903920"/>
        </p:xfrm>
        <a:graphic>
          <a:graphicData uri="http://schemas.openxmlformats.org/drawingml/2006/table">
            <a:tbl>
              <a:tblPr/>
              <a:tblGrid>
                <a:gridCol w="2616120"/>
                <a:gridCol w="2692440"/>
                <a:gridCol w="2692440"/>
              </a:tblGrid>
              <a:tr h="186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Les chaînes de télévision francaises, nous aident à apprendre plus facilement le français.</a:t>
                      </a:r>
                      <a:br>
                        <a:rPr sz="25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?????????????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Ioana</cp:lastModifiedBy>
  <dcterms:modified xsi:type="dcterms:W3CDTF">2009-10-22T15:37:16Z</dcterms:modified>
  <cp:revision>20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